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534-37CB-4453-BC2E-39879CEB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DCA-C04C-4200-9893-29C6BE76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F6E-9022-457C-9692-098E105F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BD2-F25B-46E5-B456-85E95608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4CD-FB71-43B9-B6AA-A55D7A92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226-B0F4-4B67-B0D2-362DC594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EE9-4347-42CD-87CB-09B63CD1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E2A-17D8-4D06-8A27-66FCD5AC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715-698D-4802-AFD4-0DD7758D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A48-CFCB-428A-B787-D5E36A9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CBB-37C4-4C66-849E-4084B129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E6F-E8E1-4F21-88CE-790614A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D9DE-F93B-4726-A7F6-5B6CCAF00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05120" y="914400"/>
            <a:ext cx="5038560" cy="24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t Righ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819520" y="350532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Be Healthy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7010280" y="4648320"/>
          <a:ext cx="146700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648320"/>
                    <a:ext cx="14670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7"/>
          <p:cNvGraphicFramePr/>
          <p:nvPr/>
        </p:nvGraphicFramePr>
        <p:xfrm>
          <a:off x="304920" y="609480"/>
          <a:ext cx="1304640" cy="12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09480"/>
                    <a:ext cx="13046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9"/>
          <p:cNvGraphicFramePr/>
          <p:nvPr/>
        </p:nvGraphicFramePr>
        <p:xfrm>
          <a:off x="228600" y="5181480"/>
          <a:ext cx="220968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81480"/>
                    <a:ext cx="22096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1"/>
          <p:cNvGraphicFramePr/>
          <p:nvPr/>
        </p:nvGraphicFramePr>
        <p:xfrm>
          <a:off x="3733920" y="5410080"/>
          <a:ext cx="1066680" cy="106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5410080"/>
                    <a:ext cx="1066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2"/>
          <p:cNvGraphicFramePr/>
          <p:nvPr/>
        </p:nvGraphicFramePr>
        <p:xfrm>
          <a:off x="609480" y="2666880"/>
          <a:ext cx="1022400" cy="172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2666880"/>
                    <a:ext cx="1022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Food Pyram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Fats, Oils &amp; Sweets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Use Sparing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1219320" y="4191120"/>
          <a:ext cx="259056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91120"/>
                    <a:ext cx="259056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7"/>
          <p:cNvGraphicFramePr/>
          <p:nvPr/>
        </p:nvGraphicFramePr>
        <p:xfrm>
          <a:off x="3886200" y="2819520"/>
          <a:ext cx="138924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819520"/>
                    <a:ext cx="13892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8"/>
          <p:cNvGraphicFramePr/>
          <p:nvPr/>
        </p:nvGraphicFramePr>
        <p:xfrm>
          <a:off x="6477120" y="2895480"/>
          <a:ext cx="1649160" cy="14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895480"/>
                    <a:ext cx="164916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9"/>
          <p:cNvGraphicFramePr/>
          <p:nvPr/>
        </p:nvGraphicFramePr>
        <p:xfrm>
          <a:off x="5334120" y="4419720"/>
          <a:ext cx="2209680" cy="155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419720"/>
                    <a:ext cx="220968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Milk, Yogurt &amp; Cheese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-3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1143000" y="4191120"/>
          <a:ext cx="13050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191120"/>
                    <a:ext cx="13050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6095880" y="3733920"/>
          <a:ext cx="1908360" cy="17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733920"/>
                    <a:ext cx="19083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5029200" y="4800600"/>
          <a:ext cx="523800" cy="12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800600"/>
                    <a:ext cx="52380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3124080" y="2743200"/>
          <a:ext cx="105588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2743200"/>
                    <a:ext cx="1055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Meat, Poultry, Fish, Dry Beans, Eggs, &amp; Nuts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-3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6477120" y="4648320"/>
          <a:ext cx="22860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648320"/>
                    <a:ext cx="22860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4"/>
          <p:cNvGraphicFramePr/>
          <p:nvPr/>
        </p:nvGraphicFramePr>
        <p:xfrm>
          <a:off x="1219320" y="2971800"/>
          <a:ext cx="990360" cy="87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9903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5"/>
          <p:cNvGraphicFramePr/>
          <p:nvPr/>
        </p:nvGraphicFramePr>
        <p:xfrm>
          <a:off x="914400" y="4495680"/>
          <a:ext cx="141120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5680"/>
                    <a:ext cx="141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6"/>
          <p:cNvGraphicFramePr/>
          <p:nvPr/>
        </p:nvGraphicFramePr>
        <p:xfrm>
          <a:off x="3505320" y="5105520"/>
          <a:ext cx="1858680" cy="7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105520"/>
                    <a:ext cx="1858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-5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3505320" y="3276720"/>
          <a:ext cx="143496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76720"/>
                    <a:ext cx="143496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"/>
          <p:cNvGraphicFramePr/>
          <p:nvPr/>
        </p:nvGraphicFramePr>
        <p:xfrm>
          <a:off x="5715000" y="5105520"/>
          <a:ext cx="2590920" cy="96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5105520"/>
                    <a:ext cx="259092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6"/>
          <p:cNvGraphicFramePr/>
          <p:nvPr/>
        </p:nvGraphicFramePr>
        <p:xfrm>
          <a:off x="1143000" y="2895480"/>
          <a:ext cx="15289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95480"/>
                    <a:ext cx="15289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7"/>
          <p:cNvGraphicFramePr/>
          <p:nvPr/>
        </p:nvGraphicFramePr>
        <p:xfrm>
          <a:off x="6629400" y="2666880"/>
          <a:ext cx="1752480" cy="147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2666880"/>
                    <a:ext cx="175248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8"/>
          <p:cNvGraphicFramePr/>
          <p:nvPr/>
        </p:nvGraphicFramePr>
        <p:xfrm>
          <a:off x="2514600" y="5410080"/>
          <a:ext cx="2438280" cy="11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410080"/>
                    <a:ext cx="2438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9"/>
          <p:cNvGraphicFramePr/>
          <p:nvPr/>
        </p:nvGraphicFramePr>
        <p:xfrm>
          <a:off x="4572000" y="2438280"/>
          <a:ext cx="1843200" cy="106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438280"/>
                    <a:ext cx="18432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0"/>
          <p:cNvGraphicFramePr/>
          <p:nvPr/>
        </p:nvGraphicFramePr>
        <p:xfrm>
          <a:off x="533520" y="914400"/>
          <a:ext cx="1104840" cy="15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914400"/>
                    <a:ext cx="11048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Fruit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-4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914400" y="4648320"/>
          <a:ext cx="103176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648320"/>
                    <a:ext cx="10317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4"/>
          <p:cNvGraphicFramePr/>
          <p:nvPr/>
        </p:nvGraphicFramePr>
        <p:xfrm>
          <a:off x="6705720" y="3124080"/>
          <a:ext cx="1541520" cy="17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3124080"/>
                    <a:ext cx="154152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"/>
          <p:cNvGraphicFramePr/>
          <p:nvPr/>
        </p:nvGraphicFramePr>
        <p:xfrm>
          <a:off x="6934320" y="5105520"/>
          <a:ext cx="944280" cy="94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5105520"/>
                    <a:ext cx="9442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666880" y="5257800"/>
          <a:ext cx="106704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257800"/>
                    <a:ext cx="1067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2057400" y="2895480"/>
          <a:ext cx="8254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895480"/>
                    <a:ext cx="825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838080" y="685800"/>
          <a:ext cx="954360" cy="182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685800"/>
                    <a:ext cx="954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9"/>
          <p:cNvGraphicFramePr/>
          <p:nvPr/>
        </p:nvGraphicFramePr>
        <p:xfrm>
          <a:off x="685800" y="3048120"/>
          <a:ext cx="75420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3048120"/>
                    <a:ext cx="754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11"/>
          <p:cNvGraphicFramePr/>
          <p:nvPr/>
        </p:nvGraphicFramePr>
        <p:xfrm>
          <a:off x="5029200" y="2895480"/>
          <a:ext cx="957240" cy="976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2895480"/>
                    <a:ext cx="9572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2"/>
          <p:cNvGraphicFramePr/>
          <p:nvPr/>
        </p:nvGraphicFramePr>
        <p:xfrm>
          <a:off x="3124080" y="4038480"/>
          <a:ext cx="828720" cy="730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24080" y="4038480"/>
                    <a:ext cx="8287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3"/>
          <p:cNvGraphicFramePr/>
          <p:nvPr/>
        </p:nvGraphicFramePr>
        <p:xfrm>
          <a:off x="3505320" y="2743200"/>
          <a:ext cx="815760" cy="693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05320" y="2743200"/>
                    <a:ext cx="815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5"/>
          <p:cNvGraphicFramePr/>
          <p:nvPr/>
        </p:nvGraphicFramePr>
        <p:xfrm>
          <a:off x="4495680" y="4114800"/>
          <a:ext cx="1646280" cy="1266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1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4114800"/>
                    <a:ext cx="16462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Bread, Cereal, Rice &amp; Pasta</a:t>
            </a:r>
            <a:br>
              <a:rPr sz="72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-11 Serv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657600" y="4572000"/>
          <a:ext cx="213372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572000"/>
                    <a:ext cx="21337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4"/>
          <p:cNvGraphicFramePr/>
          <p:nvPr/>
        </p:nvGraphicFramePr>
        <p:xfrm>
          <a:off x="1752480" y="5257800"/>
          <a:ext cx="878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257800"/>
                    <a:ext cx="878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5"/>
          <p:cNvGraphicFramePr/>
          <p:nvPr/>
        </p:nvGraphicFramePr>
        <p:xfrm>
          <a:off x="6810480" y="4114800"/>
          <a:ext cx="80964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10480" y="4114800"/>
                    <a:ext cx="809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1143000" y="3352680"/>
          <a:ext cx="1143000" cy="100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352680"/>
                    <a:ext cx="1143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t Right &amp; Reach Your Goal of Eating Righ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9T12:42:08Z</dcterms:created>
  <dc:creator>Janet Caughlin</dc:creator>
  <dc:description/>
  <dc:language>en-US</dc:language>
  <cp:lastModifiedBy>gbarna</cp:lastModifiedBy>
  <cp:lastPrinted>1999-01-09T12:46:20Z</cp:lastPrinted>
  <dcterms:modified xsi:type="dcterms:W3CDTF">2010-08-03T23:14:28Z</dcterms:modified>
  <cp:revision>10</cp:revision>
  <dc:subject/>
  <dc:title>No Slide Title</dc:title>
</cp:coreProperties>
</file>